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175-98DF-4AC2-9213-ECEF4334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EC5-F0AF-440C-9BF3-DD159960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B85-DF07-4F6A-844E-92640D85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D99-2A4C-4DCE-BF1C-E51CC5E0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FB3-56BF-4630-A5FE-AD3281FA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158-FA4B-49C5-A846-D7829848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308-CE0A-4D21-A495-4129909A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415-8FC3-4B09-8922-4AD8E0BB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EAD-4C4A-4C2A-A52D-32EDBD02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A02-147C-46B1-B442-4029E50B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746-9716-4384-8272-D05295E1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D7F-D3F9-4B1D-A9B7-68D96E89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71B2-75AF-4BFF-AFE8-E0E15041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297180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ус - туй чудесно 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ълно е със благости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ва то във всяко вре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ир любов и радости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905120" y="297180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в Исусовото 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вървим ний все напред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рез Него ще побед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ш'те врагове напред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9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905120" y="297180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лко скъпо за нас 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 това на наший Спас,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греха ни то избав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е силен щит за нас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808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828800" y="358128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, възпейте вий туй име,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азгласете го навред,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кле целий свят го чуе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ще му даде ответ !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fonTrifonow</cp:lastModifiedBy>
  <dcterms:modified xsi:type="dcterms:W3CDTF">2005-11-22T07:01:0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